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44D0C-4E72-4A37-9A4E-A7A73441C54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1A1EB-B13D-428E-9DAD-64888A10C9C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ploring our Solar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78C82-9652-4FFD-A2A1-23CCD4574CD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lculating how long light take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travels at a speed of 300 000 000 m/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long does light from the Sun take to reach Earth? (distance of Earth from the Sun is 150 million k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ance from earth to the sun = 150 000 000 000 me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300 000 000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0 000 000 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= 500 seconds (/60 =8.3 minut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4DB53-ACB8-4854-996A-08E23D4E06B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fused about weight and mas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F6308-747B-46EE-B358-E0251ABE1E2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at are mass and weigh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9B08E-981B-47FE-897F-0E47BBB11A9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eacher n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click and reveal activity could be used to check students’ understanding of weight and ma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lease note that the classification of Pluto as a planet was still being addressed at the time of publication and so it has still been included as part of this activ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CBA61-6BB2-406E-8AE5-636C2060739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y does weight var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F3442-01A1-444A-8ED4-05434665D16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eacher n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two-part sequence shows how gravity affects an astronaut’s movement on the Mo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028E8-AE59-4D5D-861F-DE4C065C425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w do we calculate an objects weigh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9A512-756B-45EE-9981-1EF9F4918AB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hoto credit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6 Jupiterimages Corpo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43F48-0227-49E4-9A38-C6AAAB9BE77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hoto credit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6 Jupiterimages Corpo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mage shows astronaut Edwin E. Aldrin Jr. walking on the lunar surface during the Apollo 11 mission to the Moon in 196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F340E-6DE3-40C5-A793-11FE8F5AB53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eacher n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multiple-choice quiz could be used as a plenary activity to assess students’ understanding of weight and mass calculations. Class voting or the use of coloured traffic light cards could be used to make this a whole-class exerci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6BE44-D842-4196-88A2-E7F7988FB25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In this lesson we should lear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out the distances involved in space tra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out manned and unmanned space f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w very large distances are measured in spa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31097-A711-4CEB-8702-4C02148DD01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utc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Foundation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should now be able to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Describe that radio signals take a long time to travel through the Solar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Explain that manned spacecraft need to take food, water and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Know that unmanned spacecraft can withstand conditions that are lethal to huma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State that unmanned spacecraft can send back information on: temperature, magnetic field and radiation; gravity, atmosphere and surrounding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Higher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Describe  what a light-year is and its use in measuring very large dist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Explain the advantages and disadvantages of using unmanned spacecraft to explore the Solar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CB0BA-3D7B-493C-ABF1-47EEC6B8D60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utc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Foundation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should now be able to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Describe that radio signals take a long time to travel through the Solar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Explain that manned spacecraft need to take food, water and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Know that unmanned spacecraft can withstand conditions that are lethal to huma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State that unmanned spacecraft can send back information on: temperature, magnetic field and radiation; gravity, atmosphere and surrounding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Higher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Describe  what a light-year is and its use in measuring very large dist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Explain the advantages and disadvantages of using unmanned spacecraft to explore the Solar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5CD48-68C5-4013-81DA-690EB01785E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o wants to go into spa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1032A-FD45-4CF4-8CBC-102D6859128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What do you think about space travel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 isn’t chea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e there too many dangers with tonnes of metal floating around above our head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at should happen to the International Space Station stuck in budget wrangl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at do you think about Virgin Galactic which announced the construction of a $200 million spaceport in 2005 to take tourists into low earth orb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7BDBE-10CF-4A99-89F0-451C843C1CE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9AE87-A858-42CB-813B-B0FA053CC68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F0C41-9EB9-4577-8DC7-82DB3705EA8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4E45D-54D4-480B-9C18-DEA3EF29538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w far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arth is 150 000 000Km away from the su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ght travels 300 000km each sec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 light takes about 8minutes to reach Ear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ry large distances in space are measured in light years- the distance that light travels in 1 year (9 500 000 000 000 000 Km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next star nearest to Earth (after the sun) is called Proxima Centauri  and is 4.22 light years aw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4E15-0ECD-46A2-96FB-7586610A8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47D3-DB65-4A12-88BE-129C17B21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863D-BC71-4516-A123-C93FE6808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3D43-9A11-4E5D-A48B-B1F6AF32E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9E09-3564-4558-ACEC-E57DECC18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C169-E2F6-46A9-B379-0DCC50F31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80AF-485B-4D87-A534-40154D21E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4735-7285-485A-8C28-2ACB6A225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23AD-AF16-4A4C-BE1F-DA45D94CB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FD44-819D-4FC9-A388-CA8DC2710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432F-B674-4258-8F79-7DCD9A484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AB79-FD31-4B76-8443-EBE03CEDB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AF1B1-DCEB-4BEC-953C-7F641914A5D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314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xploring our Solar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03280" y="49413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2f part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Ag00140_"/>
          <p:cNvPicPr/>
          <p:nvPr/>
        </p:nvPicPr>
        <p:blipFill>
          <a:blip r:embed="rId1"/>
          <a:stretch/>
        </p:blipFill>
        <p:spPr>
          <a:xfrm>
            <a:off x="395280" y="333360"/>
            <a:ext cx="2612880" cy="3166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scaleplanets"/>
          <p:cNvPicPr/>
          <p:nvPr/>
        </p:nvPicPr>
        <p:blipFill>
          <a:blip r:embed="rId2"/>
          <a:stretch/>
        </p:blipFill>
        <p:spPr>
          <a:xfrm>
            <a:off x="4572000" y="189000"/>
            <a:ext cx="438156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alculating how long light takes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ght travels at a speed of 300 000 000 m/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long does light from the Sun take to reach Earth? (distance of Earth from the Sun is 150 million k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ance from earth to the sun = 150 000 000 000 m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300 000 000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0 000 000 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= 500 seconds (/60 =8.3 minut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8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8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8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8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" dur="8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8" dur="8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" dur="8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onfused about weight and mas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563400" y="1468440"/>
            <a:ext cx="4505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Have you ever heard anyone saying that “the scales don’t tell the truth about their weight”? You may be surprised to hear that they are righ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563400" y="3551400"/>
            <a:ext cx="498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Scales give a reading in kilograms, which are the units of </a:t>
            </a:r>
            <a:r>
              <a:rPr b="1" lang="en-GB" sz="2400" spc="-1" strike="noStrike">
                <a:solidFill>
                  <a:srgbClr val="cc00cc"/>
                </a:solidFill>
                <a:latin typeface="Arial"/>
              </a:rPr>
              <a:t>mass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, not the units of </a:t>
            </a:r>
            <a:r>
              <a:rPr b="1" lang="en-GB" sz="2400" spc="-1" strike="noStrike">
                <a:solidFill>
                  <a:srgbClr val="cc00cc"/>
                </a:solidFill>
                <a:latin typeface="Arial"/>
              </a:rPr>
              <a:t>weight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498600" y="784080"/>
            <a:ext cx="814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Arial"/>
              </a:rPr>
              <a:t>WARNING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: </a:t>
            </a:r>
            <a:r>
              <a:rPr b="1" lang="en-GB" sz="2800" spc="-1" strike="noStrike">
                <a:solidFill>
                  <a:srgbClr val="cc0000"/>
                </a:solidFill>
                <a:latin typeface="Arial"/>
              </a:rPr>
              <a:t>This lesson may alter your weigh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563400" y="4905360"/>
            <a:ext cx="538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The confusion arises because most people use the word ‘weight’ when scientists would use the word ‘mass’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7" descr="scales_man"/>
          <p:cNvPicPr/>
          <p:nvPr/>
        </p:nvPicPr>
        <p:blipFill>
          <a:blip r:embed="rId1"/>
          <a:stretch/>
        </p:blipFill>
        <p:spPr>
          <a:xfrm>
            <a:off x="5624640" y="1600200"/>
            <a:ext cx="2990880" cy="4700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are mass and weigh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563400" y="1795320"/>
            <a:ext cx="787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Arial"/>
              </a:rPr>
              <a:t>Mass</a:t>
            </a:r>
            <a:r>
              <a:rPr b="1" lang="en-US" sz="2400" spc="-1" strike="noStrike">
                <a:solidFill>
                  <a:srgbClr val="01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is the </a:t>
            </a:r>
            <a:r>
              <a:rPr b="1" lang="en-US" sz="2400" spc="-1" strike="noStrike">
                <a:solidFill>
                  <a:srgbClr val="cc00cc"/>
                </a:solidFill>
                <a:latin typeface="Arial"/>
              </a:rPr>
              <a:t>amount of matter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 in an object and is measured in </a:t>
            </a:r>
            <a:r>
              <a:rPr b="1" lang="en-US" sz="2400" spc="-1" strike="noStrike">
                <a:solidFill>
                  <a:srgbClr val="cc00cc"/>
                </a:solidFill>
                <a:latin typeface="Arial"/>
              </a:rPr>
              <a:t>kilograms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"/>
          <p:cNvSpPr/>
          <p:nvPr/>
        </p:nvSpPr>
        <p:spPr>
          <a:xfrm>
            <a:off x="563400" y="3887640"/>
            <a:ext cx="7871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Arial"/>
              </a:rPr>
              <a:t>Weight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 is a </a:t>
            </a:r>
            <a:r>
              <a:rPr b="1" lang="en-US" sz="2400" spc="-1" strike="noStrike">
                <a:solidFill>
                  <a:srgbClr val="cc00cc"/>
                </a:solidFill>
                <a:latin typeface="Arial"/>
              </a:rPr>
              <a:t>force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 and is caused by the pull of gravity acting on a mass. Like other forces, weight is measured in </a:t>
            </a:r>
            <a:r>
              <a:rPr b="1" lang="en-US" sz="2400" spc="-1" strike="noStrike">
                <a:solidFill>
                  <a:srgbClr val="cc00cc"/>
                </a:solidFill>
                <a:latin typeface="Arial"/>
              </a:rPr>
              <a:t>newtons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 and has both magnitude and dir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563400" y="5299200"/>
            <a:ext cx="788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Weight has different values depending on where the object is in the Univer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Group 6"/>
          <p:cNvGrpSpPr/>
          <p:nvPr/>
        </p:nvGrpSpPr>
        <p:grpSpPr>
          <a:xfrm>
            <a:off x="1692360" y="1052640"/>
            <a:ext cx="5759280" cy="649080"/>
            <a:chOff x="1692360" y="1052640"/>
            <a:chExt cx="5759280" cy="649080"/>
          </a:xfrm>
        </p:grpSpPr>
        <p:sp>
          <p:nvSpPr>
            <p:cNvPr id="78" name="AutoShape 7"/>
            <p:cNvSpPr/>
            <p:nvPr/>
          </p:nvSpPr>
          <p:spPr>
            <a:xfrm>
              <a:off x="1692360" y="1052640"/>
              <a:ext cx="5759280" cy="649080"/>
            </a:xfrm>
            <a:prstGeom prst="roundRect">
              <a:avLst>
                <a:gd name="adj" fmla="val 8995"/>
              </a:avLst>
            </a:prstGeom>
            <a:solidFill>
              <a:srgbClr val="ffffcc"/>
            </a:solidFill>
            <a:ln w="381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 Box 8"/>
            <p:cNvSpPr/>
            <p:nvPr/>
          </p:nvSpPr>
          <p:spPr>
            <a:xfrm>
              <a:off x="1901880" y="1149120"/>
              <a:ext cx="5342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10066"/>
                  </a:solidFill>
                  <a:latin typeface="Arial"/>
                </a:rPr>
                <a:t>Mass and weight are not the same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Text Box 9"/>
          <p:cNvSpPr/>
          <p:nvPr/>
        </p:nvSpPr>
        <p:spPr>
          <a:xfrm>
            <a:off x="563400" y="2841480"/>
            <a:ext cx="776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Mass is not a force and has the same value anywhere in the Universe, including outer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0" descr="forward_arrow_colour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447040" y="6167520"/>
            <a:ext cx="630360" cy="57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14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Weight and mass on different plan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ShockwaveFlash1"/>
          <p:cNvGraphicFramePr/>
          <p:nvPr/>
        </p:nvGraphicFramePr>
        <p:xfrm>
          <a:off x="179280" y="1052640"/>
          <a:ext cx="8699760" cy="530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052640"/>
                    <a:ext cx="8699760" cy="530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y does weight var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563400" y="784080"/>
            <a:ext cx="403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cc"/>
                </a:solidFill>
                <a:latin typeface="Arial"/>
              </a:rPr>
              <a:t>Gravity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 is the force that attracts objects with mass towards each oth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563400" y="4836960"/>
            <a:ext cx="4141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The Earth has a bigger mass than the Moon and so exerts a stronger gravitational pull on the ap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563400" y="3192480"/>
            <a:ext cx="3956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For example, an apple will have the same mass on Earth as on the Moon, but its weight will be differ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" descr="newton"/>
          <p:cNvPicPr/>
          <p:nvPr/>
        </p:nvPicPr>
        <p:blipFill>
          <a:blip r:embed="rId1"/>
          <a:stretch/>
        </p:blipFill>
        <p:spPr>
          <a:xfrm>
            <a:off x="4703760" y="976320"/>
            <a:ext cx="4243320" cy="5145120"/>
          </a:xfrm>
          <a:prstGeom prst="rect">
            <a:avLst/>
          </a:prstGeom>
          <a:ln w="0">
            <a:noFill/>
          </a:ln>
        </p:spPr>
      </p:pic>
      <p:sp>
        <p:nvSpPr>
          <p:cNvPr id="90" name="Text Box 7"/>
          <p:cNvSpPr/>
          <p:nvPr/>
        </p:nvSpPr>
        <p:spPr>
          <a:xfrm>
            <a:off x="558720" y="1990800"/>
            <a:ext cx="403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The bigger the mass of the object, the stronger the force of gr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eight and mass on the Mo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ShockwaveFlash1"/>
          <p:cNvGraphicFramePr/>
          <p:nvPr/>
        </p:nvGraphicFramePr>
        <p:xfrm>
          <a:off x="250920" y="1341360"/>
          <a:ext cx="8699400" cy="530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341360"/>
                    <a:ext cx="8699400" cy="530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How do we calculate an objects weigh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539640" y="836640"/>
            <a:ext cx="8375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The weight of an object depends on its mass and the gravitational field strengt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Group 4"/>
          <p:cNvGrpSpPr/>
          <p:nvPr/>
        </p:nvGrpSpPr>
        <p:grpSpPr>
          <a:xfrm>
            <a:off x="1116000" y="1844640"/>
            <a:ext cx="6862680" cy="649440"/>
            <a:chOff x="1116000" y="1844640"/>
            <a:chExt cx="6862680" cy="649440"/>
          </a:xfrm>
        </p:grpSpPr>
        <p:sp>
          <p:nvSpPr>
            <p:cNvPr id="97" name="AutoShape 5"/>
            <p:cNvSpPr/>
            <p:nvPr/>
          </p:nvSpPr>
          <p:spPr>
            <a:xfrm>
              <a:off x="1116000" y="1844640"/>
              <a:ext cx="6862680" cy="649440"/>
            </a:xfrm>
            <a:prstGeom prst="roundRect">
              <a:avLst>
                <a:gd name="adj" fmla="val 8995"/>
              </a:avLst>
            </a:prstGeom>
            <a:solidFill>
              <a:srgbClr val="ffffcc"/>
            </a:solidFill>
            <a:ln w="255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AutoShape 6"/>
            <p:cNvSpPr/>
            <p:nvPr/>
          </p:nvSpPr>
          <p:spPr>
            <a:xfrm>
              <a:off x="1289160" y="1918080"/>
              <a:ext cx="6511680" cy="50940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10066"/>
                  </a:solidFill>
                  <a:latin typeface="Arial"/>
                </a:rPr>
                <a:t>weight = mass x gravitational field strengt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Text Box 7"/>
          <p:cNvSpPr/>
          <p:nvPr/>
        </p:nvSpPr>
        <p:spPr>
          <a:xfrm>
            <a:off x="716040" y="3341520"/>
            <a:ext cx="56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500"/>
              </a:spcBef>
              <a:buClr>
                <a:srgbClr val="cc00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Weight is measured in 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newtons (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8"/>
          <p:cNvSpPr/>
          <p:nvPr/>
        </p:nvSpPr>
        <p:spPr>
          <a:xfrm>
            <a:off x="716040" y="3803760"/>
            <a:ext cx="56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buClr>
                <a:srgbClr val="cc00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Mass is measured in 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kilograms (kg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9"/>
          <p:cNvSpPr/>
          <p:nvPr/>
        </p:nvSpPr>
        <p:spPr>
          <a:xfrm>
            <a:off x="716040" y="4253040"/>
            <a:ext cx="724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buClr>
                <a:srgbClr val="cc00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Gravitational field strength is measured in 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newtons per kilogram (N/kg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0"/>
          <p:cNvSpPr/>
          <p:nvPr/>
        </p:nvSpPr>
        <p:spPr>
          <a:xfrm>
            <a:off x="660240" y="5283360"/>
            <a:ext cx="84567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The gravitational field strength depends on the force of gravity. On Earth it is 10</a:t>
            </a:r>
            <a:r>
              <a:rPr b="0" lang="en-GB" sz="1000" spc="-1" strike="noStrike">
                <a:solidFill>
                  <a:srgbClr val="010066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N/kg, but it varies depending on planet siz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1"/>
          <p:cNvSpPr/>
          <p:nvPr/>
        </p:nvSpPr>
        <p:spPr>
          <a:xfrm>
            <a:off x="567720" y="2668680"/>
            <a:ext cx="612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The units for these quantities are as foll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alculating the weight of a c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563400" y="784080"/>
            <a:ext cx="439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A car has a mass of 10,000</a:t>
            </a:r>
            <a:r>
              <a:rPr b="0" lang="en-GB" sz="1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k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563400" y="3516480"/>
            <a:ext cx="458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cc"/>
                </a:solidFill>
                <a:latin typeface="Arial"/>
              </a:rPr>
              <a:t>weight = mass x  gravitatio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cc"/>
                </a:solidFill>
                <a:latin typeface="Arial"/>
              </a:rPr>
              <a:t>                             </a:t>
            </a:r>
            <a:r>
              <a:rPr b="1" lang="en-GB" sz="2400" spc="-1" strike="noStrike">
                <a:solidFill>
                  <a:srgbClr val="cc00cc"/>
                </a:solidFill>
                <a:latin typeface="Arial"/>
              </a:rPr>
              <a:t>field str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563400" y="4432320"/>
            <a:ext cx="433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weight = 10,000</a:t>
            </a:r>
            <a:r>
              <a:rPr b="1" lang="en-GB" sz="1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kg x 10</a:t>
            </a:r>
            <a:r>
              <a:rPr b="1" lang="en-GB" sz="1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N/k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563400" y="5078520"/>
            <a:ext cx="296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cc"/>
                </a:solidFill>
                <a:latin typeface="Arial"/>
              </a:rPr>
              <a:t>weight =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GB" sz="2400" spc="-1" strike="noStrike" u="sng">
                <a:solidFill>
                  <a:srgbClr val="cc00cc"/>
                </a:solidFill>
                <a:uFillTx/>
                <a:latin typeface="Arial"/>
              </a:rPr>
              <a:t>100,000</a:t>
            </a:r>
            <a:r>
              <a:rPr b="1" lang="en-GB" sz="1000" spc="-1" strike="noStrike" u="sng">
                <a:solidFill>
                  <a:srgbClr val="cc00cc"/>
                </a:solidFill>
                <a:uFillTx/>
                <a:latin typeface="Arial"/>
              </a:rPr>
              <a:t> </a:t>
            </a:r>
            <a:r>
              <a:rPr b="1" lang="en-GB" sz="2400" spc="-1" strike="noStrike" u="sng">
                <a:solidFill>
                  <a:srgbClr val="cc00cc"/>
                </a:solidFill>
                <a:uFillTx/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563400" y="1430280"/>
            <a:ext cx="441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What is the weight of the ca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563400" y="2076480"/>
            <a:ext cx="438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(Use 10</a:t>
            </a:r>
            <a:r>
              <a:rPr b="0" lang="en-GB" sz="1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N/kg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 as 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the value of the gravitational field strength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9" descr="24234678"/>
          <p:cNvPicPr/>
          <p:nvPr/>
        </p:nvPicPr>
        <p:blipFill>
          <a:blip r:embed="rId1"/>
          <a:stretch/>
        </p:blipFill>
        <p:spPr>
          <a:xfrm>
            <a:off x="5141880" y="912960"/>
            <a:ext cx="3764160" cy="4897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Calculating the weight of an astrona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563400" y="784080"/>
            <a:ext cx="462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8"/>
                </a:solidFill>
                <a:latin typeface="Arial"/>
              </a:rPr>
              <a:t>An astronaut and his equipment have a mass of 150</a:t>
            </a:r>
            <a:r>
              <a:rPr b="0" lang="en-GB" sz="1000" spc="-1" strike="noStrike">
                <a:solidFill>
                  <a:srgbClr val="000068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68"/>
                </a:solidFill>
                <a:latin typeface="Arial"/>
              </a:rPr>
              <a:t>k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7673958"/>
          <p:cNvPicPr/>
          <p:nvPr/>
        </p:nvPicPr>
        <p:blipFill>
          <a:blip r:embed="rId1"/>
          <a:stretch/>
        </p:blipFill>
        <p:spPr>
          <a:xfrm>
            <a:off x="5405400" y="903240"/>
            <a:ext cx="3265560" cy="513396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5"/>
          <p:cNvSpPr/>
          <p:nvPr/>
        </p:nvSpPr>
        <p:spPr>
          <a:xfrm>
            <a:off x="563400" y="2852640"/>
            <a:ext cx="4449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8"/>
                </a:solidFill>
                <a:latin typeface="Arial"/>
              </a:rPr>
              <a:t>(Use 1.6 N/kg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 as the value of </a:t>
            </a:r>
            <a:r>
              <a:rPr b="0" lang="en-GB" sz="2400" spc="-1" strike="noStrike">
                <a:solidFill>
                  <a:srgbClr val="000068"/>
                </a:solidFill>
                <a:latin typeface="Arial"/>
              </a:rPr>
              <a:t>the gravitational field strength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563400" y="1817640"/>
            <a:ext cx="431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8"/>
                </a:solidFill>
                <a:latin typeface="Arial"/>
              </a:rPr>
              <a:t>What is the weight when he is standing on the Mo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563400" y="3859200"/>
            <a:ext cx="458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cc"/>
                </a:solidFill>
                <a:latin typeface="Arial"/>
              </a:rPr>
              <a:t>weight = mass x  gravitatio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cc"/>
                </a:solidFill>
                <a:latin typeface="Arial"/>
              </a:rPr>
              <a:t>                             </a:t>
            </a:r>
            <a:r>
              <a:rPr b="1" lang="en-GB" sz="2400" spc="-1" strike="noStrike">
                <a:solidFill>
                  <a:srgbClr val="cc00cc"/>
                </a:solidFill>
                <a:latin typeface="Arial"/>
              </a:rPr>
              <a:t>field str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8"/>
          <p:cNvSpPr/>
          <p:nvPr/>
        </p:nvSpPr>
        <p:spPr>
          <a:xfrm>
            <a:off x="563400" y="4775040"/>
            <a:ext cx="433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weight = 150 kg x 1.6 N/k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9"/>
          <p:cNvSpPr/>
          <p:nvPr/>
        </p:nvSpPr>
        <p:spPr>
          <a:xfrm>
            <a:off x="563400" y="5421240"/>
            <a:ext cx="296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cc"/>
                </a:solidFill>
                <a:latin typeface="Arial"/>
              </a:rPr>
              <a:t>weight =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GB" sz="2400" spc="-1" strike="noStrike" u="sng">
                <a:solidFill>
                  <a:srgbClr val="cc00cc"/>
                </a:solidFill>
                <a:uFillTx/>
                <a:latin typeface="Arial"/>
              </a:rPr>
              <a:t>240</a:t>
            </a:r>
            <a:r>
              <a:rPr b="1" lang="en-GB" sz="1000" spc="-1" strike="noStrike" u="sng">
                <a:solidFill>
                  <a:srgbClr val="cc00cc"/>
                </a:solidFill>
                <a:uFillTx/>
                <a:latin typeface="Arial"/>
              </a:rPr>
              <a:t> </a:t>
            </a:r>
            <a:r>
              <a:rPr b="1" lang="en-GB" sz="2400" spc="-1" strike="noStrike" u="sng">
                <a:solidFill>
                  <a:srgbClr val="cc00cc"/>
                </a:solidFill>
                <a:uFillTx/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alculating weight and ma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ShockwaveFlash1"/>
          <p:cNvGraphicFramePr/>
          <p:nvPr/>
        </p:nvGraphicFramePr>
        <p:xfrm>
          <a:off x="444600" y="1125360"/>
          <a:ext cx="8699400" cy="530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600" y="1125360"/>
                    <a:ext cx="8699400" cy="530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n this lesson we should lear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bout the distances involved in space tra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bout manned and unmanned space fl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very large distances are measured in spa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utco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oundation P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should now be able to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Describe that radio signals take a long time to travel through the Solar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Explain that manned spacecraft need to take food, water and oxy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Know that unmanned spacecraft can withstand conditions that are lethal to huma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State that unmanned spacecraft can send back information on: temperature, magnetic field and radiation; gravity, atmosphere and surrounding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Higher p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escribe  what a light-year is and its use in measuring very large dist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xplain the advantages and disadvantages of using unmanned spacecraft to explore the Solar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5" descr=""/>
          <p:cNvPicPr/>
          <p:nvPr/>
        </p:nvPicPr>
        <p:blipFill>
          <a:blip r:embed="rId1"/>
          <a:stretch/>
        </p:blipFill>
        <p:spPr>
          <a:xfrm>
            <a:off x="324000" y="1916280"/>
            <a:ext cx="588960" cy="7491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"/>
          <p:cNvPicPr/>
          <p:nvPr/>
        </p:nvPicPr>
        <p:blipFill>
          <a:blip r:embed="rId2"/>
          <a:stretch/>
        </p:blipFill>
        <p:spPr>
          <a:xfrm>
            <a:off x="324000" y="1341360"/>
            <a:ext cx="588960" cy="7495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"/>
          <p:cNvPicPr/>
          <p:nvPr/>
        </p:nvPicPr>
        <p:blipFill>
          <a:blip r:embed="rId3"/>
          <a:stretch/>
        </p:blipFill>
        <p:spPr>
          <a:xfrm>
            <a:off x="324000" y="2565360"/>
            <a:ext cx="588960" cy="7495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"/>
          <p:cNvPicPr/>
          <p:nvPr/>
        </p:nvPicPr>
        <p:blipFill>
          <a:blip r:embed="rId4"/>
          <a:stretch/>
        </p:blipFill>
        <p:spPr>
          <a:xfrm>
            <a:off x="324000" y="3284640"/>
            <a:ext cx="588960" cy="7491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9" descr=""/>
          <p:cNvPicPr/>
          <p:nvPr/>
        </p:nvPicPr>
        <p:blipFill>
          <a:blip r:embed="rId5"/>
          <a:stretch/>
        </p:blipFill>
        <p:spPr>
          <a:xfrm>
            <a:off x="324000" y="5300640"/>
            <a:ext cx="588960" cy="7491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"/>
          <p:cNvPicPr/>
          <p:nvPr/>
        </p:nvPicPr>
        <p:blipFill>
          <a:blip r:embed="rId6"/>
          <a:stretch/>
        </p:blipFill>
        <p:spPr>
          <a:xfrm>
            <a:off x="324000" y="4724280"/>
            <a:ext cx="588960" cy="7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03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8" dur="8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0" dur="8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15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26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39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4" dur="500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49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54" dur="2000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59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utco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oundation P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should now be able to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Describe that radio signals take a long time to travel through the Solar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Explain that manned spacecraft need to take food, water and oxy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Know that unmanned spacecraft can withstand conditions that are lethal to huma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State that unmanned spacecraft can send back information on: temperature, magnetic field and radiation; gravity, atmosphere and surrounding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Higher p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escribe  what a light-year is and its use in measuring very large dist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xplain the advantages and disadvantages of using unmanned spacecraft to explore the Solar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o wants to go into spa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What do you think about space trave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isn’t chea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re there too many dangers with tonnes of metal floating around above our head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should happen to the International Space Station stuck in budget wrang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do you think about Virgin Galactic which announced the construction of a $200 million spaceport in 2005 to take tourists into low earth orb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380880" y="609480"/>
            <a:ext cx="8305920" cy="56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The speed of light is the fastest speed that could EVER be achiev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The speed of light is 300 000 km per SECOND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(That’s 186 000 miles per secon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Light takes  2 seconds to reach the Earth from the mo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- it takes it 8 minutes to reach the Earth from the S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3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3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3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3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30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685800" y="0"/>
            <a:ext cx="8458200" cy="66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If you were in a spaceship that travelled at the speed of light and you started a journey from the Sun it would ta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about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3 minutes to reach Mercur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5 minutes to reach Venu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8 minutes to reach the Earth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5</a:t>
            </a:r>
            <a:r>
              <a:rPr b="0" lang="en-GB" sz="2800" spc="-1" strike="noStrike" baseline="30000">
                <a:solidFill>
                  <a:srgbClr val="ffffff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/</a:t>
            </a:r>
            <a:r>
              <a:rPr b="0" lang="en-GB" sz="28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 hours to reach Plut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4 years to reach the next sta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5000 years to reach the edge of the galax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50 000 years to reach the next galax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500 000 years to reach the next Cluster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609480" y="609480"/>
            <a:ext cx="8001000" cy="58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Real rockets don’t travel at the speed of light, they travel MUCH slow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The Apollo missions took 4 days to reach the moon - at the speed of light it would have taken 2 seconds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These rockets were travelling roughly 200 000 times slower than li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At this speed it would take 125 YEARS to get to Pluto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ow fa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rth is 150 000 000Km away from the su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ight travels 300 000km each sec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 light takes about 8minutes to reach Ear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ery large distances in space are measured in light years- the distance that light travels in 1 year (9 500 000 000 000 000 Km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next star nearest to Earth (after the sun) is called Proxima Centauri  and is 4.22 light years aw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5T16:16:07Z</dcterms:created>
  <dc:creator>Heather Murphy</dc:creator>
  <dc:description/>
  <dc:language>en-US</dc:language>
  <cp:lastModifiedBy>RomaK</cp:lastModifiedBy>
  <dcterms:modified xsi:type="dcterms:W3CDTF">2015-07-31T22:40:50Z</dcterms:modified>
  <cp:revision>6</cp:revision>
  <dc:subject/>
  <dc:title>Exploring our Solar System</dc:title>
</cp:coreProperties>
</file>